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ff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1752480"/>
            <a:ext cx="7086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6680" y="18288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467480" y="5486400"/>
            <a:ext cx="99072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849440" y="5867280"/>
            <a:ext cx="39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W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7480" y="5486400"/>
            <a:ext cx="990720" cy="825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ff00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oe365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Preparing Your Chairman’s Award:  Almost As Fun As Building a Robot</a:t>
            </a:r>
            <a:br>
              <a:rPr sz="3600"/>
            </a:br>
            <a:br>
              <a:rPr sz="4800"/>
            </a:b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FIRST Philadelphia Kick-off Event</a:t>
            </a:r>
            <a:br>
              <a:rPr sz="2800"/>
            </a:b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January 5, 2008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Larock / Carol Perrot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Selecting Your CA Team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main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ocumentation / Submission team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esentation team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ongly suggest that Presentation Team is a subset of your Documentation / Submission tea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 Criteria for Documentation / Submission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First-hand knowledge of team history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First-hand knowledge / experience of team outreach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mbody the spirit of FIRST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A Documentation / Submission Team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leader for 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ibilities / Ta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roposes where to submit Chairman’s entry to rest of team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athers information for entry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velops draft of entry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Obtains feedback on entry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ubmits entry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velops judge presentation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A Presentation Team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Criteri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tudents who “get it” and are committed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tudents who know most / all aspects of team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tudents who are available to put in time necessary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a leader for 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ibilities / Ta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All responsibilities of Documentation / Submission Team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velop presentation for judges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actice presentation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Gather presentation aids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Give presentation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onsiderations on Which Regional to Submit Entry to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do you consider your “home regional”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The judges here will know your team best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The regional has a history of your team’s activity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umber of teams attending regional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umber of teams you estimate will submit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mpetitiveness of teams most likely to submit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ility of Presen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reasons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Planning your Submission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Part I – The written par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Know Your FIRST Team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team mission, vision, goals, accomplishment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 these match up against the award criteri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can you best tell your team story to meet criteri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191120"/>
            <a:ext cx="6095880" cy="1135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t is okay to not have strengths in all areas of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ward criteria – your submission should focu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telling your team’s 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Executive Summary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swer the question ask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y within the word 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time frame requeste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ore impact in recent years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Less impact many years ago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s many concrete results as poss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burger dots to provide more information in the space allo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5105520"/>
            <a:ext cx="59436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y questions about Executive Summar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MOE Executive Summary 2007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Essay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your creativity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here to word c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Write what you need to and then edit down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Get to the point as effectively as you can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can you best tell your team story to meet criteri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ore words to complement info in your Exec Summary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mphasize areas you really want judges to focus on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mphasize what is unique / special about your team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 results and emo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Use exact quotes if you can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how impact your team has had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5867280"/>
            <a:ext cx="59436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y questions about Essa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MOE CA Essay 2007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Chairman’s Awar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submi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ing your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ss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ssion / Presentation Ti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Planning your Submission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Part II – The Presentation Par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Presentation Prep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 the presentation team gets along with each o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ment info from Exec Summary and Ess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Add info you could not get into essay due to space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nhance topics you want to emphasize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ly cover topic areas you need judges to h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 a script of your 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Better chance of getting specific information across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esenters can then focus on memorizing their section(s)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clude props (posters, slides, etc.)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y within time limit (including set-u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MOE CA Presentation Script 2007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Presentation Prep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CTICE!!!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ssess the flow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Determine how presentation works with props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Have different people review presentation and comment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ntinually upgrade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5562720"/>
            <a:ext cx="59436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y questions about Presentation Prep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hairman’s Process Tips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It’s not only about what is submitted and presented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s and others will be observing Chairman’s Award contenders during the compet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put from judges and others (event volunteers, other teams) may be a factor in the judges’ decision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am should “walk the talk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Team members should act as you describe your team in your essay and presentation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Your team (especially competition team) should demonstrate Gracious Professionalism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ry team member is an ambassador for your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t’s not just about the students presenting your entry; it’s about every member of your team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This may inclu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rents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f team members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General Tips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st people on CA team are those who actively participated in team events &amp; outrea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They have personal experiences they can share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ways to differentiate your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t as much feedback on your Essay and Presentation as you can from a diverse audience before you submit / pres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ing well organized is extremely impor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out the layout of your presentation room in advance (if you ca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Bring ALL of your props (including easels)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on time for your 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Examples of MOE 365 Chairman’s Entry 2007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MOE’s Vision and Mission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to be a model FIRST robotics team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spire &amp; motiva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young people to pursue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cience and technolog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areers and become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nfident, self-reliant, responsible citizen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oised to make a real difference in our world using a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fun, creative, and unique environm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hat extends learning beyond the classroom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MOrE- Specific Examples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5867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moe365.org</a:t>
            </a:r>
            <a:r>
              <a:rPr b="0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 - go to “Chairman’s Award” under “Main” menu l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What’s all the fuss about the Chairman’s Award?</a:t>
            </a:r>
            <a:br>
              <a:rPr sz="4800"/>
            </a:b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Questions?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Good luck!</a:t>
            </a: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What is the Chairman’s Award?                   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 award in FIR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gnized as role model for other teams and embodies the goals and purpose of FIR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ional award winners qualify to compete at Championsh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mpionship winners enter FIRST Hall of F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Qualify for Championship event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hoose student to receive Allaire Medal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cholarship of $10,000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Work with producer/director to develop video tape of team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f you’re lucky, you can visit the White House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hairman’s Award Process                   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on-line inform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Yearbook Page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submission on-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xecutive Summary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hairman’s Essay Submission 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regional event to submit 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ame event you submit Woodie Flowers award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 to judges at Reg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qualify, present to judges at Championsh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638680"/>
            <a:ext cx="59436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8 Deadline – Feb 21, 2008, 11:59pm 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Why Submit An Entry?                   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 able to organize, document, and communicate what your team do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 students a chance to share their experience with FIRST jud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recognition of what you already 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get a nice trophy &amp; ba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allow students another avenue to demonstrate their skills and crea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satisfy your competitive urges another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Why Submit An Entry?                   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team must submit an entry if you have received a NASA Gr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kies should submit if you are vying for Rookie All-Star Aw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Rookies not eligible to win Chairman’s Award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Rookies to bring hardcopy for judges at Regional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Hall of Fame teams are not eligible to win Regional Chairman’s Aw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couraged to submit to verify teams are maintaining their Hall of Fame status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Organizing Your Team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Know the Criteria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Chairman’s Award documentation in FIRST manu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hasis on recent accomplishments (2007-08 year) and those of the past two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n learning experience of students, school curriculum, engineers and community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E MODEL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– demonstrate why should your team be considered one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UNICATION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– how well has team communicated excitement and impact?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NOVATION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– team documented innovative way to spread FIRST message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NERSHIP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– strengths of team partnerships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ATION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– does content exemplify true meaning of FIRST?</a:t>
            </a: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20:41:21Z</dcterms:created>
  <dc:creator>Wilkens Family</dc:creator>
  <dc:description/>
  <dc:language>en-US</dc:language>
  <cp:lastModifiedBy>DuPont</cp:lastModifiedBy>
  <cp:lastPrinted>2003-09-04T14:10:15Z</cp:lastPrinted>
  <dcterms:modified xsi:type="dcterms:W3CDTF">2008-01-04T12:24:55Z</dcterms:modified>
  <cp:revision>149</cp:revision>
  <dc:subject/>
  <dc:title>No Slide Title</dc:title>
</cp:coreProperties>
</file>